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4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6.wmf" ContentType="image/x-wmf"/>
  <Override PartName="/ppt/media/image11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5.wmf" ContentType="image/x-wmf"/>
  <Override PartName="/ppt/media/image10.png" ContentType="image/png"/>
  <Override PartName="/ppt/media/image30.png" ContentType="image/png"/>
  <Override PartName="/ppt/media/image28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20.png" ContentType="image/png"/>
  <Override PartName="/ppt/media/image19.png" ContentType="image/png"/>
  <Override PartName="/ppt/media/image18.png" ContentType="image/png"/>
  <Override PartName="/ppt/media/image21.wmf" ContentType="image/x-wmf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F5C23-0AC5-4E53-9498-114E0B5075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7EAB7-B17A-4CDD-BBAF-AF6709CA9B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62B38-2541-482C-A4D8-AA93E34D10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0A530-DA3D-4381-A7BB-4B269F9B1A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719EE-F479-439D-AF2C-330DF4E665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B2C9A-935D-4A49-A950-C515DAA74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92396-EA1A-49EE-B8A8-560E8BCE7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37009-DBF2-4B62-AA60-F1D5127F07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9996E-9F62-4755-9171-763BE56B2F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6D8FF-4964-45C4-A7AE-3CC3EAFC53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4E4A8-6471-4673-9113-2B17BDFB6A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E9AE5-0DBB-4D47-99F1-A751FBEED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9167-8071-4D8C-BE60-DC566666D3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363A8-0AC5-414F-B7A5-C2B40DECE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A7ADA-ED10-49CE-BFF8-5A44847B6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51EAD-C1D2-4D29-9D1A-026C9A64E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03B26-B444-462F-B9D9-1EC9918EDF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B8E54-B3C9-4BC1-8DC8-BB071F959D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1F0AF-6154-4369-94B8-8A67FF930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D6ABC-ABA5-4C5E-BEA5-6CA818341E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2A16D-7A54-418A-AA46-E8F2D51F3C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25CB-D366-4E97-8065-40E27ABB1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92E21-2550-47BF-9A99-D83BD50FA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E86AF-CBD8-4638-BDD6-D2F2962A9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A4CFF-30CC-4905-A9BC-7E1D472BA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3FB93-E0E6-437B-A798-0CABD795C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7B50-5853-493A-B049-669F96B8A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BE3C-4B35-4E40-AF9A-9B0CF5B55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20D0-F031-409B-8E9D-4603748C4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2AEB-5BDB-4C9E-9711-5DBF1F61C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2110-7C90-47B8-829C-33A4EC376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A5B7-EEBD-48EF-B617-2EBF23340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3486-3785-4815-8420-6F64508A1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D0B2-AB69-42D9-AAED-9DF03DECC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8197-838C-4E43-8403-0B42683C6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E02A-C446-4339-B1E0-1C1272EC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A49E-6FC1-4A70-9AC2-47D5D2E1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1139-354C-4190-B24C-9FE4AF6E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3BE64-4401-4D99-AD74-A3B56BDB7D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0"/>
          <p:cNvSpPr/>
          <p:nvPr/>
        </p:nvSpPr>
        <p:spPr>
          <a:xfrm>
            <a:off x="228600" y="6172200"/>
            <a:ext cx="876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roup 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hris Daly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ongli Han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eremy Johnson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mmel Martin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eraldo Par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http://www.tripoli-lebanon.com/images/world-map.jpg"/>
          <p:cNvPicPr/>
          <p:nvPr/>
        </p:nvPicPr>
        <p:blipFill>
          <a:blip r:embed="rId1"/>
          <a:stretch/>
        </p:blipFill>
        <p:spPr>
          <a:xfrm>
            <a:off x="-542880" y="298440"/>
            <a:ext cx="10283760" cy="6261120"/>
          </a:xfrm>
          <a:prstGeom prst="rect">
            <a:avLst/>
          </a:prstGeom>
          <a:ln w="0">
            <a:noFill/>
          </a:ln>
        </p:spPr>
      </p:pic>
      <p:pic>
        <p:nvPicPr>
          <p:cNvPr id="50" name="Rectangle 9" descr=""/>
          <p:cNvPicPr/>
          <p:nvPr/>
        </p:nvPicPr>
        <p:blipFill>
          <a:blip r:embed="rId2"/>
          <a:stretch/>
        </p:blipFill>
        <p:spPr>
          <a:xfrm>
            <a:off x="987480" y="-139680"/>
            <a:ext cx="6943680" cy="163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4"/>
          <p:cNvSpPr/>
          <p:nvPr/>
        </p:nvSpPr>
        <p:spPr>
          <a:xfrm>
            <a:off x="509040" y="1806480"/>
            <a:ext cx="582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rebuchet MS"/>
              </a:rPr>
              <a:t>II. Route Optimiz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B7C83-E2D8-48C5-9384-A5D39CBA9C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4952880" y="3886200"/>
            <a:ext cx="3124440" cy="235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2028600" y="787320"/>
            <a:ext cx="44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Bolivia Cluster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A8366-F769-408E-8890-265C5956C0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19560" cy="4701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2"/>
          <a:stretch/>
        </p:blipFill>
        <p:spPr>
          <a:xfrm>
            <a:off x="7162920" y="609480"/>
            <a:ext cx="1447560" cy="9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4"/>
          <p:cNvSpPr/>
          <p:nvPr/>
        </p:nvSpPr>
        <p:spPr>
          <a:xfrm>
            <a:off x="461160" y="533520"/>
            <a:ext cx="333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rebuchet MS"/>
              </a:rPr>
              <a:t>Solver Set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380880" y="914400"/>
            <a:ext cx="8534520" cy="70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Objectiv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Minimize distance travel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npu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istance between capit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repping mode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Set up Minimization and Sumproduct paramet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2B795-983F-418D-B5AA-99E18A16E4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1"/>
          <p:cNvSpPr/>
          <p:nvPr/>
        </p:nvSpPr>
        <p:spPr>
          <a:xfrm>
            <a:off x="1066680" y="1828800"/>
            <a:ext cx="6934320" cy="457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1"/>
          <a:stretch/>
        </p:blipFill>
        <p:spPr>
          <a:xfrm>
            <a:off x="1295280" y="2057400"/>
            <a:ext cx="6226200" cy="390384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7"/>
          <p:cNvSpPr/>
          <p:nvPr/>
        </p:nvSpPr>
        <p:spPr>
          <a:xfrm>
            <a:off x="5105520" y="609480"/>
            <a:ext cx="32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inimize distance within chosen clu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7"/>
          <p:cNvSpPr/>
          <p:nvPr/>
        </p:nvSpPr>
        <p:spPr>
          <a:xfrm>
            <a:off x="4191120" y="91440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5"/>
          <p:cNvSpPr/>
          <p:nvPr/>
        </p:nvSpPr>
        <p:spPr>
          <a:xfrm>
            <a:off x="685800" y="52236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Route Optim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DFEA-FCD4-492A-875E-CED77824D4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1"/>
          <p:cNvSpPr/>
          <p:nvPr/>
        </p:nvSpPr>
        <p:spPr>
          <a:xfrm>
            <a:off x="298440" y="609480"/>
            <a:ext cx="573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rebuchet MS"/>
              </a:rPr>
              <a:t>Most efficient rou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8" descr="Map of Latin America"/>
          <p:cNvPicPr/>
          <p:nvPr/>
        </p:nvPicPr>
        <p:blipFill>
          <a:blip r:embed="rId1"/>
          <a:stretch/>
        </p:blipFill>
        <p:spPr>
          <a:xfrm>
            <a:off x="380880" y="1371600"/>
            <a:ext cx="4953240" cy="4924440"/>
          </a:xfrm>
          <a:prstGeom prst="rect">
            <a:avLst/>
          </a:prstGeom>
          <a:ln w="0">
            <a:noFill/>
          </a:ln>
        </p:spPr>
      </p:pic>
      <p:sp>
        <p:nvSpPr>
          <p:cNvPr id="113" name="TextBox 8"/>
          <p:cNvSpPr/>
          <p:nvPr/>
        </p:nvSpPr>
        <p:spPr>
          <a:xfrm>
            <a:off x="5562720" y="1982880"/>
            <a:ext cx="3352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gent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nezue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liv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gu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buClr>
                <a:srgbClr val="000000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rugu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5617080" y="1371600"/>
            <a:ext cx="145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Route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60D28-10FC-49B7-AEC5-A67CDF60CB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4"/>
          <p:cNvSpPr/>
          <p:nvPr/>
        </p:nvSpPr>
        <p:spPr>
          <a:xfrm>
            <a:off x="1466280" y="1273320"/>
            <a:ext cx="532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rebuchet MS"/>
              </a:rPr>
              <a:t>III. Expected Budg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015EF-AE37-4F11-B2D8-307740E2E1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2971800" y="2590920"/>
            <a:ext cx="2479680" cy="33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DF3C1-72D4-4752-8410-1D3750CDDE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533520" y="380880"/>
            <a:ext cx="7848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Objective: Use Crystal Ball to simulate expected airfar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ource – Kayak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Average airfares for last 12 month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Triangular Distribu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- Best case, worst case, average scen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11A79-4C85-45C4-ADEB-8057A4CBAA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rcRect l="0" t="0" r="41253" b="0"/>
          <a:stretch/>
        </p:blipFill>
        <p:spPr>
          <a:xfrm>
            <a:off x="228600" y="1371600"/>
            <a:ext cx="4584600" cy="487692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5"/>
          <p:cNvSpPr/>
          <p:nvPr/>
        </p:nvSpPr>
        <p:spPr>
          <a:xfrm>
            <a:off x="1688760" y="482760"/>
            <a:ext cx="55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rebuchet MS"/>
              </a:rPr>
              <a:t>Introducing Kayak.c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5118120" y="1295280"/>
            <a:ext cx="3720960" cy="4876920"/>
          </a:xfrm>
          <a:custGeom>
            <a:avLst/>
            <a:gdLst>
              <a:gd name="textAreaLeft" fmla="*/ 181440 w 3720960"/>
              <a:gd name="textAreaRight" fmla="*/ 3539520 w 3720960"/>
              <a:gd name="textAreaTop" fmla="*/ 181440 h 4876920"/>
              <a:gd name="textAreaBottom" fmla="*/ 4695480 h 4876920"/>
            </a:gdLst>
            <a:ahLst/>
            <a:rect l="textAreaLeft" t="textAreaTop" r="textAreaRight" b="textAreaBottom"/>
            <a:pathLst>
              <a:path w="21600" h="28310">
                <a:moveTo>
                  <a:pt x="3600" y="0"/>
                </a:moveTo>
                <a:arcTo wR="3600" hR="3600" stAng="16200000" swAng="-5400000"/>
                <a:lnTo>
                  <a:pt x="0" y="24710"/>
                </a:lnTo>
                <a:arcTo wR="3600" hR="3600" stAng="10800000" swAng="-5400000"/>
                <a:lnTo>
                  <a:pt x="18000" y="283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5334120" y="1717560"/>
            <a:ext cx="33526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Airf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12 mo a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low estim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high estim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=&gt; distribu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AE229-EA82-4E16-A6BC-C63EE156F4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rcRect l="6487" t="25168" r="1622" b="0"/>
          <a:stretch/>
        </p:blipFill>
        <p:spPr>
          <a:xfrm>
            <a:off x="1676520" y="2057400"/>
            <a:ext cx="5602320" cy="41148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4"/>
          <p:cNvSpPr/>
          <p:nvPr/>
        </p:nvSpPr>
        <p:spPr>
          <a:xfrm>
            <a:off x="154080" y="762120"/>
            <a:ext cx="847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When you don’t have better data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go triangula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6" descr=""/>
          <p:cNvPicPr/>
          <p:nvPr/>
        </p:nvPicPr>
        <p:blipFill>
          <a:blip r:embed="rId1"/>
          <a:srcRect l="0" t="15000" r="2813" b="8750"/>
          <a:stretch/>
        </p:blipFill>
        <p:spPr>
          <a:xfrm>
            <a:off x="457200" y="1752480"/>
            <a:ext cx="7853400" cy="4629240"/>
          </a:xfrm>
          <a:prstGeom prst="rect">
            <a:avLst/>
          </a:prstGeom>
          <a:ln w="0">
            <a:noFill/>
          </a:ln>
        </p:spPr>
      </p:pic>
      <p:sp>
        <p:nvSpPr>
          <p:cNvPr id="130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53840-A574-4053-A330-2280C654D8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1752480" y="609480"/>
            <a:ext cx="59436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Trebuchet MS"/>
              </a:rPr>
              <a:t>Budget Distribution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133200" y="609480"/>
            <a:ext cx="595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rebuchet MS"/>
              </a:rPr>
              <a:t>Problem Defini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380880" y="1447920"/>
            <a:ext cx="731520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MBAs like to travel but want to justify it as a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CULTURAL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experi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For this “culture quest” we nee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1) what region to visi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2) optimal travel rou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3) expected budget ($$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5410080" y="3581280"/>
            <a:ext cx="3429000" cy="2694240"/>
          </a:xfrm>
          <a:prstGeom prst="rect">
            <a:avLst/>
          </a:prstGeom>
          <a:ln w="0">
            <a:noFill/>
          </a:ln>
        </p:spPr>
      </p:pic>
      <p:sp>
        <p:nvSpPr>
          <p:cNvPr id="5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595A1-E00F-43E2-B6E1-5BCA6E196F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659AC-1B80-43CF-9C61-5A7B535AAE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1898640" y="647640"/>
            <a:ext cx="5086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Trebuchet MS"/>
              </a:rPr>
              <a:t>Expected Budget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7" descr=""/>
          <p:cNvPicPr/>
          <p:nvPr/>
        </p:nvPicPr>
        <p:blipFill>
          <a:blip r:embed="rId1"/>
          <a:stretch/>
        </p:blipFill>
        <p:spPr>
          <a:xfrm>
            <a:off x="1066680" y="2133720"/>
            <a:ext cx="68788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4"/>
          <p:cNvSpPr/>
          <p:nvPr/>
        </p:nvSpPr>
        <p:spPr>
          <a:xfrm>
            <a:off x="1155960" y="2797200"/>
            <a:ext cx="250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rebuchet MS"/>
              </a:rPr>
              <a:t>IV. Reca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E0738-FF59-4D15-BAFD-46D30FF067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0" descr=""/>
          <p:cNvPicPr/>
          <p:nvPr/>
        </p:nvPicPr>
        <p:blipFill>
          <a:blip r:embed="rId1"/>
          <a:stretch/>
        </p:blipFill>
        <p:spPr>
          <a:xfrm>
            <a:off x="181080" y="2514600"/>
            <a:ext cx="4695840" cy="358128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7"/>
          <p:cNvSpPr/>
          <p:nvPr/>
        </p:nvSpPr>
        <p:spPr>
          <a:xfrm>
            <a:off x="4952880" y="2405160"/>
            <a:ext cx="41148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Team 14: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Yes we did  - (and dude what’s in your hand?)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0" y="547560"/>
            <a:ext cx="952488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Times New Roman"/>
                <a:ea typeface="Arial"/>
              </a:rPr>
              <a:t>Juran asks: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Arial"/>
              </a:rPr>
              <a:t>“Did they just bust out clusters, Solver </a:t>
            </a:r>
            <a:r>
              <a:rPr b="1" i="1" lang="en-US" sz="3400" spc="-1" strike="noStrike">
                <a:solidFill>
                  <a:srgbClr val="000000"/>
                </a:solidFill>
                <a:latin typeface="Times New Roman"/>
                <a:ea typeface="Arial"/>
              </a:rPr>
              <a:t>and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Arial"/>
              </a:rPr>
              <a:t>C-ball?”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F8D56-EBDC-484D-B160-9C48802CC5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685800" y="609480"/>
            <a:ext cx="36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ed1c24"/>
                </a:solidFill>
                <a:latin typeface="Trebuchet MS"/>
              </a:rPr>
              <a:t>Summary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64668-96CC-489B-9767-8EFFCD6860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533520" y="1754280"/>
            <a:ext cx="7696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 Split world into clusters based o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ultural s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 Minimized travel distance withi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u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) Generated expected bud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228600" y="1143000"/>
            <a:ext cx="8153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corporate other modes of travel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trains, car rentals, ferri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ry duration of tra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X volatility in bud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tural barriers/ infrastructure 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169200" y="457200"/>
            <a:ext cx="837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d1c24"/>
                </a:solidFill>
                <a:latin typeface="Trebuchet MS"/>
              </a:rPr>
              <a:t>Suggestions for version 3.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C994-F2C4-4927-861C-889A743662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6" descr=""/>
          <p:cNvPicPr/>
          <p:nvPr/>
        </p:nvPicPr>
        <p:blipFill>
          <a:blip r:embed="rId1"/>
          <a:stretch/>
        </p:blipFill>
        <p:spPr>
          <a:xfrm>
            <a:off x="4267080" y="5257800"/>
            <a:ext cx="2000520" cy="1440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"/>
          <p:cNvPicPr/>
          <p:nvPr/>
        </p:nvPicPr>
        <p:blipFill>
          <a:blip r:embed="rId2"/>
          <a:stretch/>
        </p:blipFill>
        <p:spPr>
          <a:xfrm>
            <a:off x="1295280" y="5257800"/>
            <a:ext cx="2057400" cy="13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3"/>
          <p:cNvSpPr/>
          <p:nvPr/>
        </p:nvSpPr>
        <p:spPr>
          <a:xfrm>
            <a:off x="914400" y="1828800"/>
            <a:ext cx="36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ed1c24"/>
                </a:solidFill>
                <a:latin typeface="Trebuchet MS"/>
              </a:rPr>
              <a:t>Gracia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3657600" y="3733920"/>
            <a:ext cx="43434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ed1c24"/>
                </a:solidFill>
                <a:latin typeface="Trebuchet MS"/>
              </a:rPr>
              <a:t>Questions ?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581FE-886F-4BD2-BA51-09FC233F22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152280" y="5867280"/>
            <a:ext cx="876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roup 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hris Daly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ongli Han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eremy Johnson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mmel Martin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eraldo Par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8"/>
          <p:cNvSpPr/>
          <p:nvPr/>
        </p:nvSpPr>
        <p:spPr>
          <a:xfrm>
            <a:off x="120240" y="609480"/>
            <a:ext cx="574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rebuchet MS"/>
              </a:rPr>
              <a:t>Decision Variab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838080" y="1523880"/>
            <a:ext cx="7086600" cy="42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UNESCO – World Heritage S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ites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ultural, natural &amp; mix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Geographic Lo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how many sites per coun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ravel distance between capit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Bud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plane ticket pr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6AC38-FE82-4143-A9A8-D08F0DFB55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169560" y="609480"/>
            <a:ext cx="446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rebuchet MS"/>
              </a:rPr>
              <a:t>Plan of Attac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838080" y="1447920"/>
            <a:ext cx="7086600" cy="38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Cluster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group countries depending on s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ol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inimize distance between capit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Monte-Carlo si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forecast expected airfare for tr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5E001-E1F3-45EC-88B2-DD5E1D5323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4"/>
          <p:cNvSpPr/>
          <p:nvPr/>
        </p:nvSpPr>
        <p:spPr>
          <a:xfrm>
            <a:off x="302760" y="1266840"/>
            <a:ext cx="520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rebuchet MS"/>
              </a:rPr>
              <a:t>I. Country Group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77129-4B30-46DB-A374-B017BC910A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rcRect l="8688" t="0" r="0" b="25902"/>
          <a:stretch/>
        </p:blipFill>
        <p:spPr>
          <a:xfrm>
            <a:off x="2895480" y="2209680"/>
            <a:ext cx="5765760" cy="418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4"/>
          <p:cNvSpPr/>
          <p:nvPr/>
        </p:nvSpPr>
        <p:spPr>
          <a:xfrm>
            <a:off x="465480" y="533520"/>
            <a:ext cx="422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rebuchet MS"/>
              </a:rPr>
              <a:t>Cluster Analy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380880" y="1219320"/>
            <a:ext cx="8534520" cy="72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npu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Number of cultural sites per coun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- Distance between capit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PPP of each country as FX prox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repping mode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Standardiz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Use sum of square to find similarities like reg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ssum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- 10 clu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D3244-4FC9-4902-A5F3-5888F5C855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2"/>
          <p:cNvSpPr/>
          <p:nvPr/>
        </p:nvSpPr>
        <p:spPr>
          <a:xfrm>
            <a:off x="76320" y="1295280"/>
            <a:ext cx="8915400" cy="518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11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8763120" cy="4889520"/>
          </a:xfrm>
          <a:prstGeom prst="rect">
            <a:avLst/>
          </a:prstGeom>
          <a:ln w="0">
            <a:noFill/>
          </a:ln>
        </p:spPr>
      </p:pic>
      <p:cxnSp>
        <p:nvCxnSpPr>
          <p:cNvPr id="69" name="Straight Arrow Connector 14"/>
          <p:cNvCxnSpPr/>
          <p:nvPr/>
        </p:nvCxnSpPr>
        <p:spPr>
          <a:xfrm flipH="1">
            <a:off x="2361960" y="3352680"/>
            <a:ext cx="457920" cy="61056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70" name="Straight Arrow Connector 17"/>
          <p:cNvCxnSpPr/>
          <p:nvPr/>
        </p:nvCxnSpPr>
        <p:spPr>
          <a:xfrm flipV="1">
            <a:off x="5942520" y="4190760"/>
            <a:ext cx="229320" cy="30528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71" name="Straight Arrow Connector 20"/>
          <p:cNvCxnSpPr/>
          <p:nvPr/>
        </p:nvCxnSpPr>
        <p:spPr>
          <a:xfrm flipV="1">
            <a:off x="2589840" y="5486040"/>
            <a:ext cx="229320" cy="53424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72" name="Straight Arrow Connector 22"/>
          <p:cNvCxnSpPr/>
          <p:nvPr/>
        </p:nvCxnSpPr>
        <p:spPr>
          <a:xfrm flipV="1">
            <a:off x="6019920" y="5562360"/>
            <a:ext cx="762480" cy="38160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73" name="Straight Arrow Connector 24"/>
          <p:cNvCxnSpPr/>
          <p:nvPr/>
        </p:nvCxnSpPr>
        <p:spPr>
          <a:xfrm flipV="1">
            <a:off x="7315200" y="5486040"/>
            <a:ext cx="534240" cy="38160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74" name="Rectangle 14"/>
          <p:cNvSpPr/>
          <p:nvPr/>
        </p:nvSpPr>
        <p:spPr>
          <a:xfrm>
            <a:off x="54000" y="533520"/>
            <a:ext cx="431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rebuchet MS"/>
              </a:rPr>
              <a:t>Model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63F00-1554-4A23-B996-A6394FD717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5"/>
          <p:cNvSpPr/>
          <p:nvPr/>
        </p:nvSpPr>
        <p:spPr>
          <a:xfrm>
            <a:off x="380880" y="914400"/>
            <a:ext cx="8763120" cy="251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06CA6-B299-48FF-898F-B7978A8D5A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8210520" cy="2259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9"/>
          <p:cNvSpPr/>
          <p:nvPr/>
        </p:nvSpPr>
        <p:spPr>
          <a:xfrm>
            <a:off x="2872800" y="3530520"/>
            <a:ext cx="300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Observ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10"/>
          <p:cNvSpPr/>
          <p:nvPr/>
        </p:nvSpPr>
        <p:spPr>
          <a:xfrm>
            <a:off x="914400" y="4038480"/>
            <a:ext cx="7696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0000"/>
              </a:buClr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Egypt is center of the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buClr>
                <a:srgbClr val="ff0000"/>
              </a:buClr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UK early win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buClr>
                <a:srgbClr val="ff0000"/>
              </a:buClr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China drops out at 8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buClr>
                <a:srgbClr val="ff0000"/>
              </a:buClr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Bias for smaller countries w/ lots of neighb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8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8153640" cy="4645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"/>
          <p:cNvPicPr/>
          <p:nvPr/>
        </p:nvPicPr>
        <p:blipFill>
          <a:blip r:embed="rId2"/>
          <a:stretch/>
        </p:blipFill>
        <p:spPr>
          <a:xfrm>
            <a:off x="4800600" y="228600"/>
            <a:ext cx="3984480" cy="26668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4"/>
          <p:cNvSpPr/>
          <p:nvPr/>
        </p:nvSpPr>
        <p:spPr>
          <a:xfrm>
            <a:off x="-990720" y="30492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Output Example: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10 “Centroid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6F22B-35A6-4BBF-AB73-01ED039B91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3"/>
          <a:stretch/>
        </p:blipFill>
        <p:spPr>
          <a:xfrm>
            <a:off x="1219320" y="3124080"/>
            <a:ext cx="761760" cy="381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"/>
          <p:cNvPicPr/>
          <p:nvPr/>
        </p:nvPicPr>
        <p:blipFill>
          <a:blip r:embed="rId4"/>
          <a:stretch/>
        </p:blipFill>
        <p:spPr>
          <a:xfrm>
            <a:off x="5410080" y="2895480"/>
            <a:ext cx="569880" cy="381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"/>
          <p:cNvPicPr/>
          <p:nvPr/>
        </p:nvPicPr>
        <p:blipFill>
          <a:blip r:embed="rId5"/>
          <a:stretch/>
        </p:blipFill>
        <p:spPr>
          <a:xfrm>
            <a:off x="4800600" y="4191120"/>
            <a:ext cx="635040" cy="382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"/>
          <p:cNvPicPr/>
          <p:nvPr/>
        </p:nvPicPr>
        <p:blipFill>
          <a:blip r:embed="rId6"/>
          <a:stretch/>
        </p:blipFill>
        <p:spPr>
          <a:xfrm>
            <a:off x="4191120" y="3581280"/>
            <a:ext cx="542880" cy="360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"/>
          <p:cNvPicPr/>
          <p:nvPr/>
        </p:nvPicPr>
        <p:blipFill>
          <a:blip r:embed="rId7"/>
          <a:stretch/>
        </p:blipFill>
        <p:spPr>
          <a:xfrm>
            <a:off x="4762440" y="3124080"/>
            <a:ext cx="486000" cy="324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2" descr=""/>
          <p:cNvPicPr/>
          <p:nvPr/>
        </p:nvPicPr>
        <p:blipFill>
          <a:blip r:embed="rId8"/>
          <a:stretch/>
        </p:blipFill>
        <p:spPr>
          <a:xfrm>
            <a:off x="4800600" y="4724280"/>
            <a:ext cx="576360" cy="385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"/>
          <p:cNvPicPr/>
          <p:nvPr/>
        </p:nvPicPr>
        <p:blipFill>
          <a:blip r:embed="rId9"/>
          <a:stretch/>
        </p:blipFill>
        <p:spPr>
          <a:xfrm>
            <a:off x="1749600" y="4419720"/>
            <a:ext cx="604800" cy="409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10"/>
          <a:stretch/>
        </p:blipFill>
        <p:spPr>
          <a:xfrm>
            <a:off x="2666880" y="5029200"/>
            <a:ext cx="660600" cy="447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4" descr=""/>
          <p:cNvPicPr/>
          <p:nvPr/>
        </p:nvPicPr>
        <p:blipFill>
          <a:blip r:embed="rId11"/>
          <a:stretch/>
        </p:blipFill>
        <p:spPr>
          <a:xfrm>
            <a:off x="4952880" y="3505320"/>
            <a:ext cx="590760" cy="392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5" descr=""/>
          <p:cNvPicPr/>
          <p:nvPr/>
        </p:nvPicPr>
        <p:blipFill>
          <a:blip r:embed="rId12"/>
          <a:stretch/>
        </p:blipFill>
        <p:spPr>
          <a:xfrm>
            <a:off x="5334120" y="5105520"/>
            <a:ext cx="609480" cy="401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06:31:26Z</dcterms:created>
  <dc:creator>Roberto Kriete</dc:creator>
  <dc:description/>
  <dc:language>en-US</dc:language>
  <cp:lastModifiedBy>tm</cp:lastModifiedBy>
  <dcterms:modified xsi:type="dcterms:W3CDTF">2008-04-28T04:02:14Z</dcterms:modified>
  <cp:revision>351</cp:revision>
  <dc:subject/>
  <dc:title>PowerPoint Presentation</dc:title>
</cp:coreProperties>
</file>